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8.gif" ContentType="image/gif"/>
  <Override PartName="/ppt/media/image15.png" ContentType="image/png"/>
  <Override PartName="/ppt/media/image14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23.jpeg" ContentType="image/jpeg"/>
  <Override PartName="/ppt/media/image19.jpeg" ContentType="image/jpeg"/>
  <Override PartName="/ppt/media/image2.gif" ContentType="image/gif"/>
  <Override PartName="/ppt/media/image11.png" ContentType="image/png"/>
  <Override PartName="/ppt/media/image9.png" ContentType="image/png"/>
  <Override PartName="/ppt/media/image22.jpeg" ContentType="image/jpeg"/>
  <Override PartName="/ppt/media/type.wav" ContentType="audio/x-wav"/>
  <Override PartName="/ppt/media/projctor.wav" ContentType="audio/x-wav"/>
  <Override PartName="/ppt/media/image24.jpeg" ContentType="image/jpeg"/>
  <Override PartName="/ppt/media/image8.gif" ContentType="image/gif"/>
  <Override PartName="/ppt/media/image4.png" ContentType="image/png"/>
  <Override PartName="/ppt/media/image7.png" ContentType="image/png"/>
  <Override PartName="/ppt/media/image34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5.png" ContentType="image/png"/>
  <Override PartName="/ppt/media/applause.wav" ContentType="audio/x-wav"/>
  <Override PartName="/ppt/media/CLAP.WAV" ContentType="audio/x-wav"/>
  <Override PartName="/ppt/media/image35.png" ContentType="image/png"/>
  <Override PartName="/ppt/media/image27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30.gif" ContentType="image/gif"/>
  <Override PartName="/ppt/media/image28.png" ContentType="image/png"/>
  <Override PartName="/ppt/media/HORN8.WAV" ContentType="audio/x-wav"/>
  <Override PartName="/ppt/media/MTS_003.WAV" ContentType="audio/x-wav"/>
  <Override PartName="/ppt/media/camera.wav" ContentType="audio/x-wav"/>
  <Override PartName="/ppt/media/laser.wav" ContentType="audio/x-wav"/>
  <Override PartName="/ppt/media/TYPE.WAV" ContentType="audio/x-wav"/>
  <Override PartName="/ppt/media/BOB7T.WAV" ContentType="audio/x-wav"/>
  <Override PartName="/ppt/media/image21.jpeg" ContentType="image/jpeg"/>
  <Override PartName="/ppt/media/image29.png" ContentType="image/png"/>
  <Override PartName="/ppt/media/chimes.wav" ContentType="audio/x-wav"/>
  <Override PartName="/ppt/media/image16.png" ContentType="image/png"/>
  <Override PartName="/ppt/media/image6.png" ContentType="image/png"/>
  <Override PartName="/ppt/media/image36.png" ContentType="image/png"/>
  <Override PartName="/ppt/media/explod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C73-B065-4344-8E0D-E54D7350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1CE-78A0-472E-94A1-B5EC0527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1CC1-3C4A-4A11-AB1A-943C5090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34F-F9CA-42E4-87C4-9EDF96E2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0BC3-BDB0-46EF-A754-618019D1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9805-83A1-41DE-A464-6E72DDF0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8706-503D-40D1-BEB8-755838A5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139A-7BAC-4F8C-860D-97DA8BBC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E5E0-92EF-47EF-9D21-C20090E6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0375-6CA9-4A31-A6EA-2AD860A4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5B85-2043-4740-B8DE-77765549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4D1-D37B-4CDF-B14D-BBFB5ABD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95BE-2945-4196-ADC5-4D2CEEE4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A9DB-505F-4D4E-9E09-DF3609C6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4F79-9C1F-4B92-9FCB-1B0880CD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6703-28A9-424E-88F1-6FC34C29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D241-2C64-41EE-8F55-59937FAE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71B72-A114-45A6-B54E-D605C969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8A0C1-3ECA-4B7E-AE74-4095299C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F507A-CAE2-4CC8-BCA9-44D45026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7D56F-1E0E-4741-B536-565E04DE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F0F55-3FAC-4193-9D92-6E62BFAF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D691-3134-4C71-BE89-47F06D98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5245A-A51D-430C-83A0-FEF8F6C2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5D194-0BD4-4A22-BF27-5A902A92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756DF-C6FD-45D1-A6DC-D962235C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CCAE0-9044-4FE2-B058-3B4AA051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522AC-BC28-44DA-AD46-D2F76904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DC67E-7F57-4764-BADB-C9E4DEB0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8C652-11C6-400A-B056-2F8AFBD7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937-204F-4C51-BA96-3B0E75EC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E8E1-27F1-42AA-A2E4-FFE48343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DFD1-F44A-481A-8A62-49DADFF9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6430-B498-4DBC-85AC-D73AE284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72F-58E2-4600-ABD2-FBB77BAF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2E3B-6E9F-422B-B9A2-68D22712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1FC1-3699-4639-B6B7-EE35E2B778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2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4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EF69-B9C2-4319-9B71-BF4F7AA214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461E-A885-43A5-A493-83553E1E74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4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audio" Target="../media/HORN8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BOB7T.WAV"/><Relationship Id="rId3" Type="http://schemas.openxmlformats.org/officeDocument/2006/relationships/audio" Target="../media/MTS_003.WAV"/><Relationship Id="rId4" Type="http://schemas.openxmlformats.org/officeDocument/2006/relationships/audio" Target="../media/HORN8.WAV"/><Relationship Id="rId5" Type="http://schemas.openxmlformats.org/officeDocument/2006/relationships/audio" Target="../media/MTS_003.WAV"/><Relationship Id="rId6" Type="http://schemas.openxmlformats.org/officeDocument/2006/relationships/audio" Target="../media/chimes.wav"/><Relationship Id="rId7" Type="http://schemas.openxmlformats.org/officeDocument/2006/relationships/audio" Target="../media/BOB7T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0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BOB7T.WAV"/><Relationship Id="rId6" Type="http://schemas.openxmlformats.org/officeDocument/2006/relationships/audio" Target="../media/BOB7T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BOB7T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BOB7T.WAV"/><Relationship Id="rId3" Type="http://schemas.openxmlformats.org/officeDocument/2006/relationships/audio" Target="../media/HORN8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HORN8.WAV"/><Relationship Id="rId3" Type="http://schemas.openxmlformats.org/officeDocument/2006/relationships/audio" Target="../media/BOB7T.WAV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audio" Target="../media/BOB7T.WAV"/><Relationship Id="rId7" Type="http://schemas.openxmlformats.org/officeDocument/2006/relationships/audio" Target="../media/HORN8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audio" Target="../media/chimes.wav"/><Relationship Id="rId4" Type="http://schemas.openxmlformats.org/officeDocument/2006/relationships/audio" Target="../media/BOB7T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himes.wav"/><Relationship Id="rId3" Type="http://schemas.openxmlformats.org/officeDocument/2006/relationships/audio" Target="../media/HORN8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audio" Target="../media/BOB7T.WAV"/><Relationship Id="rId5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audio" Target="../media/BOB7T.WAV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image" Target="../media/image3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audio" Target="../media/MTS_003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312408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5638680" y="48769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7467480" y="5257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378360" y="457200"/>
            <a:ext cx="4347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--Let’s go to visi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Australi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--A good ide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6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11040" y="304920"/>
            <a:ext cx="683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yers Rock in the Northern Terr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sacred site to the Aboriginal peo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1670760" y="533520"/>
            <a:ext cx="56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mall settlement in the out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1899720" y="45720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ustralian cowboys herding c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 a ranch in the out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5" dur="3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751320" y="685800"/>
            <a:ext cx="78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The road from Alice Springs to Tennant Cr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1306800" y="620640"/>
            <a:ext cx="66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stralia’s capitol building in Canb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900000" y="49320"/>
            <a:ext cx="7488360" cy="6548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himes.wav"/>
      </p:stSnd>
    </p:sndAc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531720" y="0"/>
            <a:ext cx="41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-reading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1200" y="914400"/>
            <a:ext cx="68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Where did the Australians come from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00480" y="2349360"/>
            <a:ext cx="65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What did the Kooris use for hun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8680" y="3809880"/>
            <a:ext cx="83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How many languages were spoken in Austral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67760" y="160020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963720" y="3068640"/>
            <a:ext cx="58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curiously shaped piece of w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70200" y="443700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ver 25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古利人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5791320" y="45720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OOR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867280" y="16002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orig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2743200"/>
            <a:ext cx="3429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first people of the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dysjmap3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34520" y="6324480"/>
            <a:ext cx="609480" cy="533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4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611280" y="685800"/>
            <a:ext cx="3624120" cy="288612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4859280" y="685800"/>
            <a:ext cx="3745080" cy="281448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1905120" y="3645000"/>
            <a:ext cx="5837040" cy="299700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2843280" y="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rigines/ Koo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530064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4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3492360" y="0"/>
            <a:ext cx="2808360" cy="350028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4500720" cy="35006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3205080" cy="35002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4643280" cy="321300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562200" cy="3573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6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863640" y="15228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ep 1 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839880"/>
            <a:ext cx="800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Please translate the sentence in four w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他们可能去露营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19280" y="23623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 is possible/likely/probable that they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62120" y="3505320"/>
            <a:ext cx="77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y are likely to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38080" y="4267080"/>
            <a:ext cx="72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ybe they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6680" y="5105520"/>
            <a:ext cx="55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y may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38080" y="57913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y have possibly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Australia0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562040" y="1752480"/>
            <a:ext cx="681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mong aboriginal art forms practiced today is bark paint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228600" y="0"/>
          <a:ext cx="8915400" cy="714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915400" cy="71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CLAP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066680" y="380880"/>
            <a:ext cx="682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mong aboriginal art forms practiced today is bark paint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1581120" y="1905120"/>
          <a:ext cx="55054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1120" y="1905120"/>
                    <a:ext cx="55054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TYP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0" y="0"/>
            <a:ext cx="501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ast rea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8380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ain idea of each paragra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58640" y="1609560"/>
            <a:ext cx="2043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6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1676520"/>
            <a:ext cx="93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earliest settlers--Koor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0920" y="236232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ways of lif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90920" y="31240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popul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14600" y="38862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edu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438280" y="4648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languag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3828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date of being citizens of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Buterfl1" descr=""/>
          <p:cNvPicPr/>
          <p:nvPr/>
        </p:nvPicPr>
        <p:blipFill>
          <a:blip r:embed="rId2"/>
          <a:stretch/>
        </p:blipFill>
        <p:spPr>
          <a:xfrm>
            <a:off x="8626320" y="6340320"/>
            <a:ext cx="517680" cy="517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669960" y="550800"/>
            <a:ext cx="75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story about Australia and then t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ther the sentences are true(T) or false(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9480" y="1676520"/>
            <a:ext cx="8349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1 Australia is about 20,000 years 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2 The first people of Australia were kn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borig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3 Maybe the aborigines developed the old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 of art on the ea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4 The aborigines lived by farming and fis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6960" y="1747800"/>
            <a:ext cx="4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0040" y="2251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0040" y="3187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9000" y="4181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971640" y="692280"/>
            <a:ext cx="770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)5 The population of Kooris decreased sharply  after the arrival of foreign settl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)6 Whenever the Kooris defended their rights, they killed thousands and thousands of foreign settl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)7 Koori children enjoy equal rights of education  with white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118160" y="765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117800" y="1989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167120" y="37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2085840" y="-85680"/>
            <a:ext cx="45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hoose the right ans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19240" y="328680"/>
            <a:ext cx="20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53352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 The first people arriving in Australia might be from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Europe           B Africa            C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 “Aborigines” means______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 the oldest races on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. a strong system of society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. the first people of a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 Their spiritual faith and gods were very important to them.  This means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 they strongly believed in their spiritual faith and g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. they didn’t develop a civilization of their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. they wanted to be the most important race on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296200" y="547560"/>
            <a:ext cx="4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57600" y="1843200"/>
            <a:ext cx="4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95480" y="4343400"/>
            <a:ext cx="4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119160"/>
            <a:ext cx="9144000" cy="71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4 The Kooris lived by_____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 growing different crops and vegetab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B. inventing and selling different kinds of fishing nets and hunting too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C. fishing , hunting animals and gathering roots, nuts and frui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5 The number of aborigines became smaller quickly because____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 foreign settlers brought new disease which killed many of th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B. foreign settlers seized their land and killed many of th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C.  both A and 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09880" y="106200"/>
            <a:ext cx="5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523880" y="3763800"/>
            <a:ext cx="5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576360" y="162000"/>
            <a:ext cx="8243640" cy="67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6. The underlined word in the sentence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Whenever the kooris </a:t>
            </a:r>
            <a:r>
              <a:rPr b="1" lang="zh-CN" sz="3000" spc="-1" strike="noStrike" u="sng">
                <a:solidFill>
                  <a:srgbClr val="ffff00"/>
                </a:solidFill>
                <a:uFillTx/>
                <a:latin typeface="Times New Roman"/>
              </a:rPr>
              <a:t>defended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their rights, they were killed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means 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gave up   B. caught  C. looked for  D.fought f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7.In the passage the writer wants to tell us mainly about____    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  how Australia was discover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B.   the first Australians ---Koor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C.   how foreign settlers treated Kooris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D.  where Kooris came fro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095880" y="1143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97180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431640" y="30240"/>
            <a:ext cx="65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Check the answers to Ex3 on Page 15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153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Don’t go too far in the bush, otherwise you may get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4920" y="2101680"/>
            <a:ext cx="84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Don’t throw the cigarette end out of the window, otherwise you may start a f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8440" y="309240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Before you return the car, make sure you clean/wash the dirt off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04920" y="420516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How about having a camp/going camping next wee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476892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 Some people suggested going beyond the mountain to have a l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16080" y="575928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. It is said that here is a valley of death. No one has dared to get into it so f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52360" y="620640"/>
            <a:ext cx="878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Please tap the cigarette ash into the ashtray. Don’t tap it on the fl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533520" y="490680"/>
            <a:ext cx="8280360" cy="66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.Which can be inferred from the passag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Australia and Asia used to be joined together by a long bridg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Kooris invented a strangely shaped tool that would bring back whatever it h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The first Australians might be from A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Kooris children enjoy equal rights of education with white childr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96080" y="609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2970000" y="0"/>
            <a:ext cx="22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762120"/>
            <a:ext cx="8858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 First people arrived in Australia(date):  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 Age of earliest cave paintings:               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 Food: 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Tools: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 Special skills: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 Past Kooris population:                      __________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7 Percentage of past population of Australia: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8 Percentage of present population of Australia: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9 Causes of death:                               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0 Past number of Kooris languages: 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1 Kooris made citizens of Australia :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248520" y="76212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3,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56360" y="121932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,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18160" y="1614600"/>
            <a:ext cx="60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imals,birds,fish,roots,nuts,wild 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355560" y="2057400"/>
            <a:ext cx="53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shing nets,shaped piece of w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65800" y="2478240"/>
            <a:ext cx="45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nding underground sp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580000" y="2895480"/>
            <a:ext cx="32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00,000—3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919560" y="334332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04000" y="3809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 little over 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85440" y="4191120"/>
            <a:ext cx="24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eases, k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249240" y="4648320"/>
            <a:ext cx="15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 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401520" y="51055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52920" cy="51814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3581280" y="457200"/>
            <a:ext cx="556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boriginal man of South Australia wears a cap of plaited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打成辫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straw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稻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and carries a decorated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装饰了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woomera, a stick used to cradle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支撑，摇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a spear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矛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and give added leverage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杠杆作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in throwing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7848720" y="5029200"/>
            <a:ext cx="960480" cy="156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440" y="6167520"/>
            <a:ext cx="6688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440" y="6167520"/>
            <a:ext cx="6688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40" y="6167520"/>
            <a:ext cx="6688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815080" cy="425592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1332000" y="4282920"/>
            <a:ext cx="665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 aboriginal family is at home in South Australia; the woman is spinning (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纺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w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1673280" y="115920"/>
            <a:ext cx="5562720" cy="407196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828720" y="43657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origines work in a lumber (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木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forest on Melville Island off the coast near Darw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734280" y="22860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75480" y="990720"/>
            <a:ext cx="74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were handed down = were passed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04920" y="1981080"/>
            <a:ext cx="808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The old house has been handed down for three gen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04920" y="32767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In poor families,clothes may be handed down from one child to the n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4920" y="54100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 The story was handed down from mouth to mouth by the el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24920" y="46483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故事是老一辈们口传下来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3353400" y="10620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762120"/>
            <a:ext cx="46483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ach out one's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伸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ut up a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举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end me a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帮我一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n every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各个方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n one hand,…one the other hand,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方面，…另一方面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876920" y="1523880"/>
            <a:ext cx="441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by hand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用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off!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请勿动手！不许碰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s up!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举起手来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sth. to sb.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把某物递给某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in (=turn in)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上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out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分发，交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80880" y="58672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-me-down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267080" y="6172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hand  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533520" y="152280"/>
            <a:ext cx="795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the elders = the old peop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33520" y="838080"/>
            <a:ext cx="81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(the oldest form of art )</a:t>
            </a:r>
            <a:r>
              <a:rPr b="1" lang="en-US" sz="2800" spc="-1" strike="noStrike">
                <a:solidFill>
                  <a:srgbClr val="e40000"/>
                </a:solidFill>
                <a:latin typeface="Times New Roman"/>
              </a:rPr>
              <a:t>y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iscovered on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1295280"/>
            <a:ext cx="82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so far discovered= that has been discovered so f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27760" y="1828800"/>
            <a:ext cx="617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 a curiously shaped piece of 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9840" y="2209680"/>
            <a:ext cx="35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idely used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9480" y="2666880"/>
            <a:ext cx="39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ly discovered is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440960" y="2209680"/>
            <a:ext cx="43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rongly pronounced s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125320" y="2666880"/>
            <a:ext cx="31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y praised d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33520" y="30481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 gathering =collec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3920" y="420516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She is an experienced 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51080" y="358128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6 be/become experienced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/in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sth/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25400" y="487692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They were quite experienced at teaching begin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62120" y="5486400"/>
            <a:ext cx="686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He is quite experienced in this kind of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6095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He is experienced at repairing c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04920" y="380880"/>
            <a:ext cx="86104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make u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组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装；弥补；虚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he was making herself up when she heard a knock at the door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 Can you make up for the loss caused by the fi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) He likes to make up s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7200" y="4800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 Take sth as one’s own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把…占为己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54100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He took this house as his own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Mike took the pen as a penc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380880" y="6094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be intended for---be provided for or designed for a particular purpose or per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09480" y="2133720"/>
            <a:ext cx="75438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ok is intended for begin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The shot was intended for the President killed one of his sold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62120" y="51055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) The seats in the front are intended for the chairman and honourable gue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9382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0" y="5943600"/>
            <a:ext cx="35812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ook) curiously (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657600" y="5943600"/>
            <a:ext cx="3352680" cy="106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ground(ro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086600" y="5867280"/>
            <a:ext cx="20574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938160" y="304920"/>
            <a:ext cx="63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0.rather than---instead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-60480" y="1219320"/>
            <a:ext cx="90522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You,rather than I,should be punished.(instead of 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ather than sleep all day,I prefer to go for an outing.(Instead of sleep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" y="4648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He will wait for the lift rather than climb the stairs.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宁可等电梯，也不爬楼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4920" y="58672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She's pretty rather than beautiful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她漂亮但并不美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57200" y="32767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I’d like to have a cold drink rather than coff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I’ll go there by bus rather than by tax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28600" y="38088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ould do…rather than d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would rather do…than d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prefer to do…rather than do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宁可…… 不做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372920" y="27432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宁可回家，也不愿意呆在这什么都不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04920" y="3535200"/>
            <a:ext cx="88390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ould go home rather stay here doing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I would rather go home than stay here doing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I prefer to go home rather than stay here doing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76320" y="330120"/>
            <a:ext cx="9132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).Kooris developed a way of life that was suitable for this hot and in many places dry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古利人形成了适应这种炎热、干燥环境自己的生活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080" y="2209680"/>
            <a:ext cx="8001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e suitable for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适合，适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e fit fo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合适，适合，胜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uitable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强调适合某种环境、情况或某种特殊需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it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常用来表示适合某种目的、用途或某人有能力胜任某工作或职务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8080" y="5334120"/>
            <a:ext cx="6477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he man is not fit for the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hese clothes are suitable for a week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914400" y="1066680"/>
            <a:ext cx="7696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.Just over 200 years ago Kooris made up 100% of the population, but today they only make up a little over 1% of the pop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就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多年前，古利人占澳大利亚人口总数的百分之百，但今天他们只占据澳大利亚人口的百分之一多一点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304920" y="210960"/>
            <a:ext cx="883908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(1) make up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组成，占据；化装；弥补；虚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Hans make up 90% of the population in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She was making herself up when she heard a knock a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Can you make up for the loss caused by the fi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He likes to make up s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(2) population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人口（不可数）；人（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What is the population of Chi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About two thirds of the population in China are peas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bj7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0" y="0"/>
            <a:ext cx="9144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Discuss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990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hy have many of Koori languages disappeared or been lo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28195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hy were Kooris made citizens of Australia, 53.000 years after arriving the count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dysjmap33" descr=""/>
          <p:cNvPicPr/>
          <p:nvPr/>
        </p:nvPicPr>
        <p:blipFill>
          <a:blip r:embed="rId3"/>
          <a:stretch/>
        </p:blipFill>
        <p:spPr>
          <a:xfrm>
            <a:off x="8458200" y="0"/>
            <a:ext cx="685800" cy="600120"/>
          </a:xfrm>
          <a:prstGeom prst="rect">
            <a:avLst/>
          </a:prstGeom>
          <a:ln w="0">
            <a:noFill/>
          </a:ln>
        </p:spPr>
      </p:pic>
      <p:pic>
        <p:nvPicPr>
          <p:cNvPr id="736" name="n15" descr=""/>
          <p:cNvPicPr/>
          <p:nvPr/>
        </p:nvPicPr>
        <p:blipFill>
          <a:blip r:embed="rId4"/>
          <a:stretch/>
        </p:blipFill>
        <p:spPr>
          <a:xfrm>
            <a:off x="0" y="6429240"/>
            <a:ext cx="9144000" cy="428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5" name="chimes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bj7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0" y="0"/>
            <a:ext cx="91440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Conso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04920" y="121932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en did the earliest settlers come and where did they come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ow did they hand down their customs, knowledge and memor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was the way of their lif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was the population in the past and what is the population now? What happen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about the education of Koori childr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happened to the Koori languag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dysjmap33" descr=""/>
          <p:cNvPicPr/>
          <p:nvPr/>
        </p:nvPicPr>
        <p:blipFill>
          <a:blip r:embed="rId3"/>
          <a:stretch/>
        </p:blipFill>
        <p:spPr>
          <a:xfrm>
            <a:off x="8534520" y="6324480"/>
            <a:ext cx="609480" cy="53352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228600" y="533520"/>
            <a:ext cx="807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Retell the text using the following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4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3"/>
          <a:stretch/>
        </p:blipFill>
        <p:spPr>
          <a:xfrm>
            <a:off x="312408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4"/>
          <a:stretch/>
        </p:blipFill>
        <p:spPr>
          <a:xfrm>
            <a:off x="5638680" y="48769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5"/>
          <a:stretch/>
        </p:blipFill>
        <p:spPr>
          <a:xfrm>
            <a:off x="7467480" y="5257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>
            <a:off x="0" y="53352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Thank you fo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joining u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1040" y="2720880"/>
            <a:ext cx="32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Good by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6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195732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228600" y="2971800"/>
            <a:ext cx="22860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birth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43200" y="2895480"/>
            <a:ext cx="28954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ous(st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172200" y="2895480"/>
            <a:ext cx="11430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2280" y="5943600"/>
            <a:ext cx="33530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aying) outdo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09880" y="5943600"/>
            <a:ext cx="12956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19920" y="5943600"/>
            <a:ext cx="2743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rgue about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122280" y="0"/>
            <a:ext cx="308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3 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94920" y="838080"/>
            <a:ext cx="72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DISCOVERY OF AUSTRA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Australia(map)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7010280" cy="53341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5183640" y="487692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038480" y="23464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h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2971800" y="3809880"/>
            <a:ext cx="25909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918160" y="479736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ational    Fla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7238880" y="5715000"/>
            <a:ext cx="1905120" cy="920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816840" y="4797360"/>
            <a:ext cx="753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pera House in Sydney,with the fam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arbour Bridge,floodlit beh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4" dur="3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1670400" y="457200"/>
            <a:ext cx="60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 section of the Great Barrier Ree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off the coast of Queens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7" dur="3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02:47:51Z</dcterms:created>
  <dc:creator>sfd</dc:creator>
  <dc:description/>
  <dc:language>en-US</dc:language>
  <cp:lastModifiedBy>w</cp:lastModifiedBy>
  <dcterms:modified xsi:type="dcterms:W3CDTF">2004-08-09T12:33:56Z</dcterms:modified>
  <cp:revision>104</cp:revision>
  <dc:subject/>
  <dc:title>PowerPoint 演示文稿</dc:title>
</cp:coreProperties>
</file>